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64C6-B846-4AF0-83EE-4EFBC846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5CB-E69C-4840-8E3A-C277C204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0FE-E306-4123-B0EA-71767457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029-43F3-42EC-B140-4692E63A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E87-8123-4901-BF72-EF234C87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BAA3-58DE-4181-87D4-A3FD30B7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3E0-AC36-4522-AABA-1D347E85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A827-718E-4E9B-A7C7-D55BF3E6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8A4F-9A53-4B0A-9B75-DB07561C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6F1F-6CE1-472F-A93C-0270DFD2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0553-53B7-4317-80E4-8D5AE28D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4EF1-0B09-446D-A746-E47AC0AB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5265-3999-4C3C-9541-F4341C20F4C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76120" y="2637000"/>
            <a:ext cx="86360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إخو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امرأه العزي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السج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76120" y="981000"/>
            <a:ext cx="8529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64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558972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برة والعظة وتصديق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1757520" y="981000"/>
            <a:ext cx="7135560" cy="62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4"/>
          <a:stretch/>
        </p:blipFill>
        <p:spPr>
          <a:xfrm>
            <a:off x="2217600" y="2744640"/>
            <a:ext cx="6678720" cy="71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5"/>
          <a:stretch/>
        </p:blipFill>
        <p:spPr>
          <a:xfrm>
            <a:off x="4054320" y="5013360"/>
            <a:ext cx="4838760" cy="67320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3429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تلاء واختب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324000" y="1628640"/>
            <a:ext cx="8569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لا بعد ما بذلوا ما في وسعهم من الدعو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6"/>
          <a:stretch/>
        </p:blipFill>
        <p:spPr>
          <a:xfrm>
            <a:off x="195120" y="2637000"/>
            <a:ext cx="875376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29600" cy="1248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66880" y="5013360"/>
            <a:ext cx="38102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76120" y="198900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الرسل مع أقوام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622520" y="1052640"/>
            <a:ext cx="72705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64072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86544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515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4000" y="11192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943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صر يأتي مع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ر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ع العس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س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صر الله لأوليائه مهما تأخر الن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تيق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يأس من إيمان الناس وهدايت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نة الله تعالى في تأخير نزول النصر على رسله و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زيادة في الابتلاء وال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227160" y="37958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قرآن الكري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فيه هداية ورحمة ل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1763640" y="981000"/>
            <a:ext cx="7113600" cy="269244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4427640" y="162864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تاب كله صد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4427640" y="234936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صيل لكل شي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4427640" y="2997360"/>
            <a:ext cx="4052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324000" y="162864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ح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324000" y="234936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395280" y="2997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دق كل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9T10:59:27Z</dcterms:modified>
  <cp:revision>2036</cp:revision>
  <dc:subject/>
  <dc:title>عرض تقديمي في PowerPoint</dc:title>
</cp:coreProperties>
</file>